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bomb.wav" ContentType="audio/x-wav"/>
  <Override PartName="/ppt/media/explode.wav" ContentType="audio/x-wav"/>
  <Override PartName="/ppt/media/image7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D02C-5573-43A2-9CC0-912635CD9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7746-9560-466C-8C4C-D4EF8891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3133-8679-4C89-BA30-1DBB118AF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13F5-A0FF-4EFF-AD28-2DB34A5AA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BD02-6FA2-4E6A-A042-417B2FB2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604E-11BC-43E8-8161-72EEBBCF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5CD8-3305-4145-8014-9778A8F9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E372-56AB-4C5F-BED6-C07C35EB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3AB4-CED2-4CD7-8F96-C278C752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1F59-9C97-4973-A647-12D21F3A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0C40-6570-43BC-B245-012E502D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DA36-DA8B-4DF9-8E29-6A08BD6F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308B-0522-4445-8B51-6A300FDDE02C}" type="slidenum">
              <a:rPr b="0" lang="en-GB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v-H1jBY7EVE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7030a0"/>
                </a:solidFill>
                <a:latin typeface="Comic Sans MS"/>
              </a:rPr>
              <a:t>The 1905 R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2195640" y="4292640"/>
            <a:ext cx="4572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http://www.youtube.com/watch?v=v-H1jBY7EV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5"/>
          <p:cNvGrpSpPr/>
          <p:nvPr/>
        </p:nvGrpSpPr>
        <p:grpSpPr>
          <a:xfrm>
            <a:off x="0" y="0"/>
            <a:ext cx="9925200" cy="6858000"/>
            <a:chOff x="0" y="0"/>
            <a:chExt cx="9925200" cy="6858000"/>
          </a:xfrm>
        </p:grpSpPr>
        <p:pic>
          <p:nvPicPr>
            <p:cNvPr id="93" name="Picture 2" descr="http://www.xtimeline.com/__UserPic_Large/41432/evt091220192100248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9989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2" descr="http://www.xtimeline.com/__UserPic_Large/41432/evt091220192100248.gif"/>
            <p:cNvPicPr/>
            <p:nvPr/>
          </p:nvPicPr>
          <p:blipFill>
            <a:blip r:embed="rId2"/>
            <a:stretch/>
          </p:blipFill>
          <p:spPr>
            <a:xfrm>
              <a:off x="4926240" y="0"/>
              <a:ext cx="49989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7030a0"/>
                </a:solidFill>
                <a:latin typeface="Comic Sans MS"/>
              </a:rPr>
              <a:t>October Manifest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cholas had to do something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October 1905 he issues the October Manifest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agreed to and elected parliament called a </a:t>
            </a:r>
            <a:r>
              <a:rPr b="1" lang="en-GB" sz="3200" spc="-1" strike="noStrike">
                <a:solidFill>
                  <a:srgbClr val="00b0f0"/>
                </a:solidFill>
                <a:latin typeface="Comic Sans MS"/>
              </a:rPr>
              <a:t>Duma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help run the count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t also gave basic rights of free speech and freedom to form political part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Liberals were happy, but others did not trust Nicholas to keep his wo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68360" y="186048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By December Nicholas had changed his mind and members of the St Petersburg Soviet were arrested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Fighting broke out across Russia and many died 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Bands of thugs called the </a:t>
            </a:r>
            <a:r>
              <a:rPr b="0" lang="en-GB" sz="2700" spc="-1" strike="noStrike">
                <a:solidFill>
                  <a:srgbClr val="00b0f0"/>
                </a:solidFill>
                <a:latin typeface="Comic Sans MS"/>
              </a:rPr>
              <a:t>“</a:t>
            </a:r>
            <a:r>
              <a:rPr b="1" lang="en-GB" sz="2700" spc="-1" strike="noStrike">
                <a:solidFill>
                  <a:srgbClr val="00b0f0"/>
                </a:solidFill>
                <a:latin typeface="Comic Sans MS"/>
              </a:rPr>
              <a:t>Black Hundreds” 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massacred the revolutionaries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By March 1906 the revolution was over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Elections for the Duma were held in March 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When they met for the first time Nicholas issued a set of </a:t>
            </a:r>
            <a:r>
              <a:rPr b="1" lang="en-GB" sz="2700" spc="-1" strike="noStrike">
                <a:solidFill>
                  <a:srgbClr val="00b0f0"/>
                </a:solidFill>
                <a:latin typeface="Comic Sans MS"/>
              </a:rPr>
              <a:t>Fundamental Laws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1. To the Emperor of all the Russias belongs supreme autocratic power”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0" name="Picture 6" descr="http://annyas.com/htdocs/wp-content/uploads/2012/03/artist-the-end-laurel-hardy-1927-second-hundred-years.jpg"/>
          <p:cNvPicPr/>
          <p:nvPr/>
        </p:nvPicPr>
        <p:blipFill>
          <a:blip r:embed="rId1"/>
          <a:stretch/>
        </p:blipFill>
        <p:spPr>
          <a:xfrm>
            <a:off x="2627280" y="0"/>
            <a:ext cx="3313080" cy="1557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10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7030a0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Began with mutiny of sailors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Peasants rebel in the country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General strike across Russia of all workers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Soviets established to run cities and keep order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October Manifesto promises elected parliament and basic rights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By December Nicholas changed mind 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By March revolution over after many deaths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Fundamental Laws show that nothing has changed – Tsar still autocrat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Picture 8" descr="http://thewritepractice.com/wp-content/uploads/2013/05/the-end.jpg"/>
          <p:cNvPicPr/>
          <p:nvPr/>
        </p:nvPicPr>
        <p:blipFill>
          <a:blip r:embed="rId1"/>
          <a:stretch/>
        </p:blipFill>
        <p:spPr>
          <a:xfrm>
            <a:off x="6300720" y="404640"/>
            <a:ext cx="2255760" cy="1702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7030a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Why did the war with Japan make the Tsar unpopular?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o you think the decision to open fire on protestors during Bloody Sunday a sensible one?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escribe the events of the 1905 Revolutio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What did the October Manifesto promise?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How successful was the 1905 Revolution?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55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7030a0"/>
                </a:solidFill>
                <a:latin typeface="Comic Sans MS"/>
              </a:rPr>
              <a:t>War with Japa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1904 Russia went to war with Japa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sar Nicholas thought victory would be quic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" name="Picture 2" descr="http://cvgs.cu-portland.edu/images/Russo_Japanese_War.jpg"/>
          <p:cNvPicPr/>
          <p:nvPr/>
        </p:nvPicPr>
        <p:blipFill>
          <a:blip r:embed="rId1"/>
          <a:srcRect l="50401" t="0" r="0" b="0"/>
          <a:stretch/>
        </p:blipFill>
        <p:spPr>
          <a:xfrm>
            <a:off x="4892760" y="1104840"/>
            <a:ext cx="4251240" cy="5753160"/>
          </a:xfrm>
          <a:prstGeom prst="rect">
            <a:avLst/>
          </a:prstGeom>
          <a:ln w="0">
            <a:noFill/>
          </a:ln>
        </p:spPr>
      </p:pic>
    </p:spTree>
  </p:cSld>
  <p:transition>
    <p:pull dir="r"/>
    <p:sndAc>
      <p:stSnd>
        <p:snd r:embed="rId2" name="bomb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" name="Picture 6" descr="http://russianculture.files.wordpress.com/2010/06/kiyochika-kobayashi-russo-japanese-war-1904.jpg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43927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 rot="788400">
            <a:off x="6349320" y="4529160"/>
            <a:ext cx="2862360" cy="137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sar Nicholas was very unpopul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250920" y="189000"/>
            <a:ext cx="86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wever the Russian army kept being defea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0" y="5288040"/>
            <a:ext cx="83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fe for the working people go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orse as the food supplies to cities brok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own and factories ran out of raw materi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  <p:sndAc>
      <p:stSnd>
        <p:snd r:embed="rId2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0" descr="https://encrypted-tbn2.gstatic.com/images?q=tbn:ANd9GcS2qpTa_AgpdSIDZvNgu48jg1Yvg1n87GFRfhK86v4ttI-TDKF-nPdiMSR1"/>
          <p:cNvPicPr/>
          <p:nvPr/>
        </p:nvPicPr>
        <p:blipFill>
          <a:blip r:embed="rId1"/>
          <a:stretch/>
        </p:blipFill>
        <p:spPr>
          <a:xfrm>
            <a:off x="0" y="0"/>
            <a:ext cx="9144000" cy="89884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640" y="1052280"/>
            <a:ext cx="51847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7030a0"/>
                </a:solidFill>
                <a:latin typeface="Comic Sans MS"/>
              </a:rPr>
              <a:t>Bloody Sund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2565000"/>
            <a:ext cx="8229600" cy="230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b0f0"/>
                </a:solidFill>
                <a:latin typeface="Comic Sans MS"/>
              </a:rPr>
              <a:t>When?</a:t>
            </a: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 Sunday 22</a:t>
            </a:r>
            <a:r>
              <a:rPr b="0" lang="en-GB" sz="30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 January 1905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b0f0"/>
                </a:solidFill>
                <a:latin typeface="Comic Sans MS"/>
              </a:rPr>
              <a:t>Who?</a:t>
            </a: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 Hundreds of Petrograd (St Petersburg) workers in their best clothes take part in a </a:t>
            </a:r>
            <a:r>
              <a:rPr b="1" lang="en-GB" sz="3000" spc="-1" strike="noStrike">
                <a:solidFill>
                  <a:srgbClr val="000000"/>
                </a:solidFill>
                <a:latin typeface="Comic Sans MS"/>
              </a:rPr>
              <a:t>peaceful march </a:t>
            </a: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led by </a:t>
            </a:r>
            <a:r>
              <a:rPr b="1" lang="en-GB" sz="3000" spc="-1" strike="noStrike">
                <a:solidFill>
                  <a:srgbClr val="000000"/>
                </a:solidFill>
                <a:latin typeface="Comic Sans MS"/>
              </a:rPr>
              <a:t>Father Gapo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Picture 6" descr="http://www.historyhome.co.uk/europe/pictures/bloodysu.jpg"/>
          <p:cNvPicPr/>
          <p:nvPr/>
        </p:nvPicPr>
        <p:blipFill>
          <a:blip r:embed="rId2"/>
          <a:stretch/>
        </p:blipFill>
        <p:spPr>
          <a:xfrm>
            <a:off x="539640" y="4941720"/>
            <a:ext cx="3384720" cy="2346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http://www.allrussias.com/images/1905_bloody%20sunday.jpg"/>
          <p:cNvPicPr/>
          <p:nvPr/>
        </p:nvPicPr>
        <p:blipFill>
          <a:blip r:embed="rId3"/>
          <a:stretch/>
        </p:blipFill>
        <p:spPr>
          <a:xfrm>
            <a:off x="4284720" y="4941720"/>
            <a:ext cx="4464000" cy="2303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s://encrypted-tbn2.gstatic.com/images?q=tbn:ANd9GcS2qpTa_AgpdSIDZvNgu48jg1Yvg1n87GFRfhK86v4ttI-TDKF-nPdiMSR1"/>
          <p:cNvPicPr/>
          <p:nvPr/>
        </p:nvPicPr>
        <p:blipFill>
          <a:blip r:embed="rId1"/>
          <a:srcRect l="0" t="16345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68360" y="119700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b0f0"/>
                </a:solidFill>
                <a:latin typeface="Comic Sans MS"/>
              </a:rPr>
              <a:t>What?</a:t>
            </a:r>
            <a:r>
              <a:rPr b="1" lang="en-GB" sz="3000" spc="-1" strike="noStrike">
                <a:solidFill>
                  <a:srgbClr val="000000"/>
                </a:solidFill>
                <a:latin typeface="Comic Sans MS"/>
              </a:rPr>
              <a:t> March to Tsar’s palace led by priests to present him with a petition which demanded 8 hour days, a minimum wage, a parliament, equality, freedom of press/religion/assembly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Comic Sans MS"/>
              </a:rPr>
              <a:t>When they reached the palace troops opened fire, 96 died 333 wounded (approx)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b0f0"/>
                </a:solidFill>
                <a:latin typeface="Comic Sans MS"/>
              </a:rPr>
              <a:t>Impact</a:t>
            </a:r>
            <a:r>
              <a:rPr b="1" lang="en-GB" sz="3000" spc="-1" strike="noStrike">
                <a:solidFill>
                  <a:srgbClr val="000000"/>
                </a:solidFill>
                <a:latin typeface="Comic Sans MS"/>
              </a:rPr>
              <a:t> = Convinced the people that Tsar no longer “Dear Father”, produced strikes and mutiny which led to 1905 Revolutio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3"/>
          <p:cNvSpPr/>
          <p:nvPr/>
        </p:nvSpPr>
        <p:spPr>
          <a:xfrm>
            <a:off x="2987640" y="404640"/>
            <a:ext cx="2448000" cy="368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rom Inside Russ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3276720" y="6237360"/>
            <a:ext cx="2447640" cy="368280"/>
          </a:xfrm>
          <a:prstGeom prst="rect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rom outside Russ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468360" y="162864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loody Sunda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1979640" y="105264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orking conditions in factori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4356000" y="119700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overnment reaction to protes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6443640" y="1413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 refor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7596360" y="2060640"/>
            <a:ext cx="129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ising tax to pay for war with Japa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324000" y="2637000"/>
            <a:ext cx="15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 freedom or righ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Box 11"/>
          <p:cNvSpPr/>
          <p:nvPr/>
        </p:nvSpPr>
        <p:spPr>
          <a:xfrm>
            <a:off x="1187280" y="494172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deas of Mar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3635280" y="5013360"/>
            <a:ext cx="16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ilitary failure in war with Japa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Box 13"/>
          <p:cNvSpPr/>
          <p:nvPr/>
        </p:nvSpPr>
        <p:spPr>
          <a:xfrm>
            <a:off x="6659640" y="508464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stern ideas of democracy from Europ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Box 14"/>
          <p:cNvSpPr/>
          <p:nvPr/>
        </p:nvSpPr>
        <p:spPr>
          <a:xfrm>
            <a:off x="2987640" y="2637000"/>
            <a:ext cx="3600360" cy="1922400"/>
          </a:xfrm>
          <a:prstGeom prst="rect">
            <a:avLst/>
          </a:prstGeom>
          <a:solidFill>
            <a:srgbClr val="ebf1de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Revolution of 190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3" name="Straight Arrow Connector 16"/>
          <p:cNvCxnSpPr/>
          <p:nvPr/>
        </p:nvCxnSpPr>
        <p:spPr>
          <a:xfrm>
            <a:off x="2050560" y="2349000"/>
            <a:ext cx="577080" cy="35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Straight Arrow Connector 18"/>
          <p:cNvCxnSpPr/>
          <p:nvPr/>
        </p:nvCxnSpPr>
        <p:spPr>
          <a:xfrm>
            <a:off x="1692360" y="3212640"/>
            <a:ext cx="100872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Straight Arrow Connector 21"/>
          <p:cNvCxnSpPr/>
          <p:nvPr/>
        </p:nvCxnSpPr>
        <p:spPr>
          <a:xfrm>
            <a:off x="3347640" y="1989000"/>
            <a:ext cx="144720" cy="43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Straight Arrow Connector 23"/>
          <p:cNvCxnSpPr/>
          <p:nvPr/>
        </p:nvCxnSpPr>
        <p:spPr>
          <a:xfrm flipH="1">
            <a:off x="5002920" y="2133720"/>
            <a:ext cx="73800" cy="358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7" name="Straight Arrow Connector 25"/>
          <p:cNvCxnSpPr/>
          <p:nvPr/>
        </p:nvCxnSpPr>
        <p:spPr>
          <a:xfrm flipH="1">
            <a:off x="6516000" y="1915920"/>
            <a:ext cx="577080" cy="433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8" name="Straight Arrow Connector 27"/>
          <p:cNvCxnSpPr/>
          <p:nvPr/>
        </p:nvCxnSpPr>
        <p:spPr>
          <a:xfrm flipH="1">
            <a:off x="6732360" y="3141720"/>
            <a:ext cx="504000" cy="28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Straight Arrow Connector 29"/>
          <p:cNvCxnSpPr/>
          <p:nvPr/>
        </p:nvCxnSpPr>
        <p:spPr>
          <a:xfrm flipV="1">
            <a:off x="2124000" y="4436640"/>
            <a:ext cx="432720" cy="28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Straight Arrow Connector 31"/>
          <p:cNvCxnSpPr/>
          <p:nvPr/>
        </p:nvCxnSpPr>
        <p:spPr>
          <a:xfrm flipV="1">
            <a:off x="5003280" y="4723560"/>
            <a:ext cx="1080" cy="577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Straight Arrow Connector 36"/>
          <p:cNvCxnSpPr/>
          <p:nvPr/>
        </p:nvCxnSpPr>
        <p:spPr>
          <a:xfrm flipH="1" flipV="1">
            <a:off x="6948000" y="4507920"/>
            <a:ext cx="72000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7030a0"/>
                </a:solidFill>
                <a:latin typeface="Comic Sans MS"/>
              </a:rPr>
              <a:t>Mutin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360" y="126828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une 1905 the crew of the battleship Potemkin threw their officers overboard and took control of the shi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showed that Tsar Nicholas could not trust or control his milit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140360" y="5661000"/>
            <a:ext cx="4572000" cy="82548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f0"/>
                </a:solidFill>
                <a:latin typeface="Comic Sans MS"/>
              </a:rPr>
              <a:t>Mutiny = rebellion against commanding offic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2" descr="http://www.ufunk.net/wp-content/uploads/2013/07/Pirates-des-Caraibes-Aux-Frontieres-de-LOubli-7.jpg"/>
          <p:cNvPicPr/>
          <p:nvPr/>
        </p:nvPicPr>
        <p:blipFill>
          <a:blip r:embed="rId1"/>
          <a:stretch/>
        </p:blipFill>
        <p:spPr>
          <a:xfrm>
            <a:off x="324000" y="4076640"/>
            <a:ext cx="3490920" cy="2598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030a0"/>
                </a:solidFill>
                <a:latin typeface="Comic Sans MS"/>
              </a:rPr>
              <a:t>The Peasants Rebel and the Workers Strike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1557360"/>
            <a:ext cx="55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n many areas of the country the peasants rebelled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Landlords were murdered and farms burned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n September a general strike began with factories, offices, shops and railways closing across Russia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8" name="Picture 2" descr="http://socialistworker.co.uk/imageFiles/Image/2008/2109/pcs_museum.jpg"/>
          <p:cNvPicPr/>
          <p:nvPr/>
        </p:nvPicPr>
        <p:blipFill>
          <a:blip r:embed="rId1"/>
          <a:stretch/>
        </p:blipFill>
        <p:spPr>
          <a:xfrm>
            <a:off x="5334120" y="227664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7030a0"/>
                </a:solidFill>
                <a:latin typeface="Comic Sans MS"/>
              </a:rPr>
              <a:t>Sovi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51280" y="1600200"/>
            <a:ext cx="511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To help run the strikes smoothly and keep order, councils called </a:t>
            </a:r>
            <a:r>
              <a:rPr b="1" lang="en-GB" sz="3000" spc="-1" strike="noStrike">
                <a:solidFill>
                  <a:srgbClr val="00b0f0"/>
                </a:solidFill>
                <a:latin typeface="Comic Sans MS"/>
              </a:rPr>
              <a:t>Soviets</a:t>
            </a: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 were established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They soon became an alternative form of government which had the support of the peopl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1" name="Picture 2" descr="http://www.amerika.org/wp-content/uploads/soviet_union-1.jpg"/>
          <p:cNvPicPr/>
          <p:nvPr/>
        </p:nvPicPr>
        <p:blipFill>
          <a:blip r:embed="rId1"/>
          <a:stretch/>
        </p:blipFill>
        <p:spPr>
          <a:xfrm>
            <a:off x="684360" y="1700280"/>
            <a:ext cx="2857320" cy="42861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5T14:02:48Z</dcterms:created>
  <dc:creator>Natalie1990</dc:creator>
  <dc:description/>
  <dc:language>en-US</dc:language>
  <cp:lastModifiedBy>Natalie1990</cp:lastModifiedBy>
  <dcterms:modified xsi:type="dcterms:W3CDTF">2013-08-25T15:53:19Z</dcterms:modified>
  <cp:revision>12</cp:revision>
  <dc:subject/>
  <dc:title>The 1905 Revolution</dc:title>
</cp:coreProperties>
</file>